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move the slide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26A9-234F-4954-BCEB-3BC3C38EE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7B28-222F-4357-847D-FBF775805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7453-AEFD-47DF-9DAA-9417AB69B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ED01-8654-41AD-A768-75EECD31B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D02D-46F4-40F6-BDEC-6FE0C0B55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9F3D-28EE-4F81-B05F-89F3CA099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8F2F-9279-4F39-BCA9-C5F622025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29D4-0DE0-4C29-A473-FF6AF2AE8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A51B-B58B-439A-9781-B7A4EE411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D684-6170-440C-80C4-3EEF1C703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4315-7EEF-4C27-8CEE-D2F1D84F7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5FFD-6828-4826-A9DB-8318BB1B6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DD18-A137-412C-9818-29C2FC1BA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EC5F-29CB-4E59-A363-2E003B248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BDC6-6968-40A1-A559-D14AFD0E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1068-B5DD-40EE-B671-0D078D86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34A01-6E3D-4278-B4E2-59BE25AF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88B10-8DF3-465B-8F17-30466DFF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353A2-6A9D-483E-AC1F-286B7A2B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E90F3-A330-483A-AA36-6B139423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0DE4F-2B4F-4209-9CA7-ECECB6AE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85B27-A684-4961-90A0-40FDEC49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BB04E-3298-4D2D-8BE9-E98A70BE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66D81-F8D9-4EE8-BC22-7B8283A7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2BAFA-EAEB-422D-A426-42ADB0E3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275E8-E892-414C-B61D-1BFD4633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A814-1C14-4EEE-88E2-F52E1577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D937E-A952-40B0-A14C-58AF1F56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F12ED-D0B1-48D3-AC27-F0B578A4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C4ECE-A964-4C72-991C-2E4E1C4D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2DDD3-3541-4D67-8D87-01086599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7CBD7-7AED-455A-8BFA-B15ABFE8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330B8-5E5B-47C7-8FE2-E655F91C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3544D-14EF-4BCA-926E-300B0EF7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487A0-3FBE-4BDA-9F09-65643331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45928-6BC3-4719-AA1B-640DD6C8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5B3C5-A33D-4B36-A8DF-93DA9745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8C26-C8D2-44F6-A184-FD523814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4902A-A954-49E0-86AA-CBFC3EF5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D5499-C441-4B47-8A32-89848DC5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48E39-E3BC-45AC-B2C7-CB4A30BC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D1083-4C72-4B2B-81E9-9F5DB815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196FD-07B1-4BC2-BF12-D25CE5FE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575ED-E6A3-4175-9339-FC5D2BFD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9CBC9-B8A5-4104-985A-C4D640A1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065E6-D13E-46DB-B7E6-F04C8E66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29787-A733-4BB6-89C7-8EFFA298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D4C0E-B36C-4A4E-A80E-9E887F9C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F46B-7F2D-4999-9A86-D3FB02B8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19BA5-3F8B-4ED8-8CB1-17B53FB1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3E2D1-081C-48B8-86C7-37FC03F8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46AAD-2222-4B03-B838-6DB81B77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F2BDB-5BD4-4718-9D92-A339B6ED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CBA68-F0AA-45E9-BA43-A667896C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A61E3-CEF9-4D5B-B88F-79F4BE49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86570-2D3A-4EA9-9A70-5D3E4646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E8D1C-A60F-42D3-A95B-4738E4A3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05C60-E1C4-438D-B71E-3E7E6C82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FE96E-1C13-41B9-89E2-355D2C2F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CFD8-B970-47EE-A3EB-BF55C25A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2519F-9D1A-4CEE-8254-B384AE8D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7B042-3098-4A36-9078-25C9BD2B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1E319-9AC9-41C4-B4AB-06FFF7C1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CBEFA-0AEC-4FDF-B0CD-79965719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687EA-EDF8-4659-8FD4-11DD94AC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ED99-B64D-4D7D-983A-F01F9173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9141-F084-457A-9B74-473AEBF1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77D6-51CC-49F9-9646-06488B41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A3AC-1E8A-4FB6-BC9C-D7DF3F67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F8B5-8A20-4E0A-B41B-8AD361DE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FCA-085F-4171-9AA1-ECACC603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6426-BCCC-4952-9D03-2722B852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5709-78E9-4A70-96C2-778245D0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31EA-1AE2-4211-AB4D-39302263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FE2B-3E88-417B-BAA2-9BEBFA59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3912-054E-44DA-A413-DD74C579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DBA54-32AC-43FD-A54A-EB102293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31D2F-5D1B-4874-999F-525FD76D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DE97B-094D-4CD3-A71B-80133C26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7D38D-50E0-473E-8CE7-B09F9DA4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E42F4-5CA5-430F-BC3B-73A37707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28C-7F53-484D-AADE-355FC73C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AEF9A-F0A6-4FEF-AF33-9A116466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43B9D-5996-416D-90C1-F2844F1D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4515A-019A-4E56-A753-A8DF85F4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CB806-1FF7-44B4-87BF-A7C3BD3D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F4C1F-5B07-4E7C-9DDA-45BE8DCB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8BA09-ABB7-4361-AB34-580E236E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B311E-5DE4-444D-856A-B8BAAAF9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A1EC0-2D2E-4410-B1E7-744829F4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F5D1B-33D5-40DC-A3E3-81794618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B517A-F7FB-4CD4-8290-35E79BD8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BA9-7009-4B7F-B5F6-3BFF7A8D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47A03-69EB-4D8D-9A07-CEF834E2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AF37C-CE40-4559-A6A7-1EF97D54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1777E-46DD-4EF3-882D-5CFFB32E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9F304-9149-46B8-B7AA-78BE6DF3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D1607-4557-474A-8C0A-5C4F34E3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7E36B-43E5-48E1-BAF7-D0513964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75786-6E35-437D-81D1-25B56F34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4907D-A467-4A24-B840-13001595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EE5F6-2C0B-48B9-B9EA-EA73DC51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DC2ED-DE44-4EEE-854E-30D2080D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0481-B3E7-4F5C-A00A-D83B5CF9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A53E1-200C-463C-8C03-1D80AF51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4B919-F75E-432D-B352-2BDFA044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6CCEC-4CDD-493F-88B7-4AA33409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3A4E5-CB68-4861-9FDB-064902C5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ADAD6-F78C-48C6-881D-42291C05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DA311-1C08-45AB-8FD2-1E8CF6F2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EF105-DB69-4E16-B112-E405630B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4ABCB-17B6-49FA-9514-588B488A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84ED3-F891-4515-BAB9-26170EB3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A4B9A-3F07-45A4-8418-115BCAFC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7D16-2351-4997-BDCF-4785FB62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4B289-352D-477D-A399-8FEC2EAC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6EA27-F2D3-48E2-91DC-4F09639B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AB513-BEE4-4E6E-81E3-D1BA088D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3F0F9-9E18-42E2-A4E7-985BEB40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BA9F4-79F8-4FB4-95AC-157EF560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5838D-E342-4810-89B4-C8C35A4C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C1A86-9DE0-44F1-82BB-6231C933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82121-A79A-45EC-AD66-88E28141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3DCC9-9BF2-4517-A201-757D1399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1B60F-B054-43D5-BE44-1D0259B7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B28-712C-43B8-A5DE-1B4995E0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CC412-8DE4-4D8D-842C-2EF595C1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5FC00-EAA5-4DF8-9F49-056E6008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39C1F-6005-4795-9C1C-C427832E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137DA-C9EB-4D2D-A5EF-FDB116FB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94416-0081-4BC2-83BE-50CABA6C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2C4A4-C38B-4469-BDB6-81C73966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4C37F-8048-4F6C-A517-90889E60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8AB95-9C06-4C20-AC24-ED4B7C83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CF563-C1F0-42D8-9BA4-2AE4BA28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FA6AA-4574-4356-833B-7CD65838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F57-0229-42A7-A8D5-B9FBCBA0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4E23E-9041-4E87-8B8F-14B239AC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39DBE-058B-417C-878B-32E57CD9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9EB9F-8DAD-4623-AA70-A029F470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D0AA8-1F02-4543-825B-51F9FE84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8FFCF-51A7-4D04-B830-C4488025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ADA54-7855-4F5F-894B-6E1E072F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01D81-9651-4E50-AD51-C29C8E99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036D2-C50D-4747-9DE4-8F89A42E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68B76-161F-4862-A56E-3C876304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5C2DF-750B-4222-8E6F-D35EE6B8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56EF-6016-4148-A3F8-C2043833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0D750-DB5E-4711-9E02-B5644420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0C935-3D83-4509-9ACA-C6120932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35326-7CDD-4661-BA11-21BA5054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42DB3-A942-4BEC-A0CA-13BCB274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70BDF-6039-4C8E-831A-2E31234B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29257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F51A6-A92F-4CB5-A4FF-D411EEE6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29257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0F7D9-C919-4762-8059-9BEF5333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292C0-1806-4D81-BF3A-EDAFA27A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EA2F8-0791-47D2-BA3E-59BEA7A7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DEF76-55B2-4110-A344-06E30E5A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4D74-CD79-41CE-BE0C-A3E3F84E7CBC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AIBS0105_NEONlogo"/>
          <p:cNvPicPr/>
          <p:nvPr/>
        </p:nvPicPr>
        <p:blipFill>
          <a:blip r:embed="rId3"/>
          <a:srcRect l="8571" t="29344" r="9426" b="29344"/>
          <a:stretch/>
        </p:blipFill>
        <p:spPr>
          <a:xfrm>
            <a:off x="281160" y="415800"/>
            <a:ext cx="685800" cy="2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9BD0-0E28-403A-828C-FE8057E8998D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1B45-456A-40C5-A6CA-24CBB6A9D1CD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0404-6479-47AD-80F5-88AC4777DE3C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AB61-E1CE-4F41-9F86-C466CD69A415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0817-1859-49C2-AB1A-4ADCBC3685DB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FA65-CFF5-4A65-A6F6-A25B8F44353A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itle 1"/>
          <p:cNvSpPr/>
          <p:nvPr/>
        </p:nvSpPr>
        <p:spPr>
          <a:xfrm>
            <a:off x="990720" y="0"/>
            <a:ext cx="6781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55"/>
                <a:ea typeface="Univers 55"/>
              </a:rPr>
              <a:t>Click to edi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Univers 55"/>
                <a:ea typeface="Univers 55"/>
              </a:rPr>
              <a:t>Master title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B51B-BBEA-43AC-9C9D-74BB9AD8DDAB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A804-825E-4079-8389-6A71323C1E72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BC8A-DE4F-450E-B598-3CA5BA604EDF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04F2-7FB8-41AC-8E00-85CB17ABD5F2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Click to edit the title text format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2925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Click to edit the outline text format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1" marL="482760" indent="-18576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con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742680" indent="-148320"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Third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3" marL="1040040" indent="-148320">
              <a:spcBef>
                <a:spcPts val="799"/>
              </a:spcBef>
              <a:buClr>
                <a:srgbClr val="1b2c5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our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4" marL="1337040" indent="-148320">
              <a:spcBef>
                <a:spcPts val="799"/>
              </a:spcBef>
              <a:buClr>
                <a:srgbClr val="1b2c5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Fif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ix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Seventh Outline Level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857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Univers 55"/>
                <a:ea typeface="Univers 5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E94C-8915-422D-85E2-A99A8F014B8E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280" y="11426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The National Ecological Observatory</a:t>
            </a:r>
            <a:br>
              <a:rPr sz="3600"/>
            </a:br>
            <a:r>
              <a:rPr b="1" lang="en-US" sz="3600" spc="-1" strike="noStrike">
                <a:solidFill>
                  <a:srgbClr val="1b2c5f"/>
                </a:solidFill>
                <a:latin typeface="Univers 55"/>
              </a:rPr>
              <a:t>(NEON)</a:t>
            </a:r>
            <a:endParaRPr b="1" lang="en-US" sz="36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228600" y="2743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Brian Wee, Ph.D.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b2c5f"/>
                </a:solidFill>
                <a:latin typeface="Univers 55"/>
              </a:rPr>
              <a:t>Chief of External Affairs, NEON, Inc.</a:t>
            </a:r>
            <a:endParaRPr b="0" lang="en-US" sz="24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03" name="Slide Number Placeholder 5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9A62-A50A-4E77-8E4B-A6FD6CE17498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StandardBearer"/>
          <p:cNvPicPr/>
          <p:nvPr/>
        </p:nvPicPr>
        <p:blipFill>
          <a:blip r:embed="rId1"/>
          <a:stretch/>
        </p:blipFill>
        <p:spPr>
          <a:xfrm>
            <a:off x="2514600" y="3809880"/>
            <a:ext cx="39276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55"/>
              </a:rPr>
              <a:t>End-to-end information processing</a:t>
            </a:r>
            <a:endParaRPr b="1" lang="en-US" sz="24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45" name="Slide Number Placeholder 5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CA14-5C6B-403D-BD78-ABE6E2CE0831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" descr="C:\Documents and Settings\bwee\Desktop\New Folder\ddd\Fig.B.png"/>
          <p:cNvPicPr/>
          <p:nvPr/>
        </p:nvPicPr>
        <p:blipFill>
          <a:blip r:embed="rId1"/>
          <a:srcRect l="13059" t="30303" r="13598" b="24926"/>
          <a:stretch/>
        </p:blipFill>
        <p:spPr>
          <a:xfrm>
            <a:off x="990720" y="963720"/>
            <a:ext cx="7315200" cy="30747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4" descr="NEON.FieldDataToApplications.ProcessFlow.v1.2.tif"/>
          <p:cNvPicPr/>
          <p:nvPr/>
        </p:nvPicPr>
        <p:blipFill>
          <a:blip r:embed="rId2"/>
          <a:stretch/>
        </p:blipFill>
        <p:spPr>
          <a:xfrm>
            <a:off x="1905120" y="3657600"/>
            <a:ext cx="57909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55"/>
              </a:rPr>
              <a:t>Information for Resource Management</a:t>
            </a:r>
            <a:endParaRPr b="1" lang="en-US" sz="2400" spc="-1" strike="noStrike">
              <a:solidFill>
                <a:srgbClr val="1b2c5f"/>
              </a:solidFill>
              <a:latin typeface="Univers 55"/>
            </a:endParaRPr>
          </a:p>
        </p:txBody>
      </p:sp>
      <p:pic>
        <p:nvPicPr>
          <p:cNvPr id="549" name="Picture 3" descr="C:\Documents and Settings\bwee\Desktop\New Folder\ddd\Fig.E.jpg"/>
          <p:cNvPicPr/>
          <p:nvPr/>
        </p:nvPicPr>
        <p:blipFill>
          <a:blip r:embed="rId1"/>
          <a:stretch/>
        </p:blipFill>
        <p:spPr>
          <a:xfrm>
            <a:off x="920880" y="1047600"/>
            <a:ext cx="7461000" cy="5581800"/>
          </a:xfrm>
          <a:prstGeom prst="rect">
            <a:avLst/>
          </a:prstGeom>
          <a:ln w="0">
            <a:noFill/>
          </a:ln>
        </p:spPr>
      </p:pic>
      <p:sp>
        <p:nvSpPr>
          <p:cNvPr id="550" name="TextBox 8"/>
          <p:cNvSpPr/>
          <p:nvPr/>
        </p:nvSpPr>
        <p:spPr>
          <a:xfrm>
            <a:off x="990720" y="5373720"/>
            <a:ext cx="38098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OI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partment of the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SC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OI Regional Climate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CC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OI Landscape Conservation Coope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55"/>
              </a:rPr>
              <a:t>NEON</a:t>
            </a:r>
            <a:endParaRPr b="1" lang="en-US" sz="24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52280" y="13712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A new major Facility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Basic discovery mission: To understand and predict the responses of living systems to environmental change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2c5f"/>
                </a:solidFill>
                <a:latin typeface="Univers 55"/>
              </a:rPr>
              <a:t>Research-to-operations mission:</a:t>
            </a: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1b2c5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1b2c5f"/>
                </a:solidFill>
                <a:latin typeface="Univers 55"/>
              </a:rPr>
              <a:t>Develop usable information for mission responsibilities from NEON observations.</a:t>
            </a:r>
            <a:endParaRPr b="0" lang="en-US" sz="2400" spc="-1" strike="noStrike">
              <a:solidFill>
                <a:srgbClr val="1b2c5f"/>
              </a:solidFill>
              <a:latin typeface="Univers 55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1b2c5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1b2c5f"/>
                </a:solidFill>
                <a:latin typeface="Univers 55"/>
              </a:rPr>
              <a:t>Develop interoperability on key measurements to allow extrapolation from NEON sites nationally and globally</a:t>
            </a:r>
            <a:endParaRPr b="0" lang="en-US" sz="2400" spc="-1" strike="noStrike">
              <a:solidFill>
                <a:srgbClr val="1b2c5f"/>
              </a:solidFill>
              <a:latin typeface="Univers 55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1b2c5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1b2c5f"/>
                </a:solidFill>
                <a:latin typeface="Univers 55"/>
              </a:rPr>
              <a:t>Identify key new observations for extensive monitoring, transfer to operations.</a:t>
            </a:r>
            <a:endParaRPr b="0" lang="en-US" sz="2400" spc="-1" strike="noStrike">
              <a:solidFill>
                <a:srgbClr val="1b2c5f"/>
              </a:solidFill>
              <a:latin typeface="Univers 55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52280" y="2590560"/>
            <a:ext cx="88394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b2c5f"/>
                </a:solidFill>
                <a:latin typeface="Univers 55"/>
              </a:rPr>
              <a:t>END</a:t>
            </a:r>
            <a:endParaRPr b="0" lang="en-US" sz="42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b2c5f"/>
                </a:solidFill>
                <a:latin typeface="Univers 55"/>
              </a:rPr>
              <a:t>Brian Wee</a:t>
            </a:r>
            <a:endParaRPr b="0" lang="en-US" sz="28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b2c5f"/>
                </a:solidFill>
                <a:latin typeface="Univers 55"/>
              </a:rPr>
              <a:t>bwee@neoninc.org</a:t>
            </a:r>
            <a:endParaRPr b="0" lang="en-US" sz="28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55" name="Date Placeholder 3"/>
          <p:cNvSpPr/>
          <p:nvPr/>
        </p:nvSpPr>
        <p:spPr>
          <a:xfrm>
            <a:off x="1522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4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9FA2-B1F7-4D0A-A115-61C9BD3B11BE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 55"/>
                <a:ea typeface="ＭＳ Ｐゴシック"/>
              </a:rPr>
              <a:t>NEON Goal</a:t>
            </a:r>
            <a:endParaRPr b="1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5335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The goal of NEON is to </a:t>
            </a:r>
            <a:r>
              <a:rPr b="0" i="1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enable</a:t>
            </a: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understanding</a:t>
            </a: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 and </a:t>
            </a:r>
            <a:r>
              <a:rPr b="0" i="1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forecasting </a:t>
            </a: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of the </a:t>
            </a:r>
            <a:r>
              <a:rPr b="0" i="1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impacts</a:t>
            </a: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 of </a:t>
            </a:r>
            <a:r>
              <a:rPr b="1" i="1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climate change</a:t>
            </a:r>
            <a:r>
              <a:rPr b="0" i="1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, </a:t>
            </a:r>
            <a:r>
              <a:rPr b="1" i="1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land use change </a:t>
            </a: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and </a:t>
            </a:r>
            <a:r>
              <a:rPr b="1" i="1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invasive species</a:t>
            </a:r>
            <a:r>
              <a:rPr b="1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on </a:t>
            </a:r>
            <a:r>
              <a:rPr b="0" i="1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continental-scale</a:t>
            </a: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 </a:t>
            </a:r>
            <a:r>
              <a:rPr b="1" i="1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ecology </a:t>
            </a: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by providing infrastructure to support research, education and environmental management in these areas.</a:t>
            </a:r>
            <a:endParaRPr b="0" lang="en-US" sz="24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pic>
        <p:nvPicPr>
          <p:cNvPr id="507" name="Picture 3" descr="Fig.A.pdf"/>
          <p:cNvPicPr/>
          <p:nvPr/>
        </p:nvPicPr>
        <p:blipFill>
          <a:blip r:embed="rId1"/>
          <a:stretch/>
        </p:blipFill>
        <p:spPr>
          <a:xfrm>
            <a:off x="1600200" y="3733920"/>
            <a:ext cx="6781680" cy="4647960"/>
          </a:xfrm>
          <a:prstGeom prst="rect">
            <a:avLst/>
          </a:prstGeom>
          <a:ln w="0">
            <a:noFill/>
          </a:ln>
        </p:spPr>
      </p:pic>
      <p:sp>
        <p:nvSpPr>
          <p:cNvPr id="508" name="TextBox 4"/>
          <p:cNvSpPr/>
          <p:nvPr/>
        </p:nvSpPr>
        <p:spPr>
          <a:xfrm>
            <a:off x="3220560" y="6019920"/>
            <a:ext cx="38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ON Cause and Effect paradi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Date Placeholder 3"/>
          <p:cNvSpPr/>
          <p:nvPr/>
        </p:nvSpPr>
        <p:spPr>
          <a:xfrm>
            <a:off x="1522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June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NEON P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5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A784-D60A-4DCE-BC8D-55A1F2930382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Content Placeholder 2"/>
          <p:cNvSpPr/>
          <p:nvPr/>
        </p:nvSpPr>
        <p:spPr>
          <a:xfrm>
            <a:off x="533520" y="1523880"/>
            <a:ext cx="82296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NEON, Inc. is a 501c(3) non-profit scientific organization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1b2c5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~80 employees (as of July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1b2c5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54 member institutions (universities and Federal ent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1b2c5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16 member Board of Dir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1b2c5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HQ in Boulder, CO with a government relations office in Washington, 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b2c5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b2c5f"/>
                </a:solidFill>
                <a:latin typeface="Univers 55"/>
                <a:ea typeface="ＭＳ Ｐゴシック"/>
              </a:rPr>
              <a:t>NEON is an observatory managed by NEON, Inc. and funded by the National Science Found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itle 1"/>
          <p:cNvSpPr/>
          <p:nvPr/>
        </p:nvSpPr>
        <p:spPr>
          <a:xfrm>
            <a:off x="9907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 55"/>
                <a:ea typeface="ＭＳ Ｐゴシック"/>
              </a:rPr>
              <a:t>NEON, Inc. the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55"/>
              </a:rPr>
              <a:t>Cascade of multi-scaled information from observations through analyses to users</a:t>
            </a:r>
            <a:endParaRPr b="1" lang="en-US" sz="24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15" name="TextBox 7"/>
          <p:cNvSpPr/>
          <p:nvPr/>
        </p:nvSpPr>
        <p:spPr>
          <a:xfrm>
            <a:off x="4350600" y="236232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C:\Documents and Settings\bwee\Desktop\New Folder\Fig.D.png"/>
          <p:cNvPicPr/>
          <p:nvPr/>
        </p:nvPicPr>
        <p:blipFill>
          <a:blip r:embed="rId1"/>
          <a:srcRect l="12562" t="14805" r="13129" b="15219"/>
          <a:stretch/>
        </p:blipFill>
        <p:spPr>
          <a:xfrm>
            <a:off x="990720" y="1219320"/>
            <a:ext cx="723888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55"/>
              </a:rPr>
              <a:t>A National Observatory: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Univers 55"/>
              </a:rPr>
              <a:t>20 Eco-climatic Domains</a:t>
            </a:r>
            <a:endParaRPr b="1" lang="en-US" sz="2400" spc="-1" strike="noStrike">
              <a:solidFill>
                <a:srgbClr val="1b2c5f"/>
              </a:solidFill>
              <a:latin typeface="Univers 55"/>
            </a:endParaRPr>
          </a:p>
        </p:txBody>
      </p:sp>
      <p:pic>
        <p:nvPicPr>
          <p:cNvPr id="518" name="Picture 4" descr="National_Strategy_Map-Mod.tif"/>
          <p:cNvPicPr/>
          <p:nvPr/>
        </p:nvPicPr>
        <p:blipFill>
          <a:blip r:embed="rId1"/>
          <a:stretch/>
        </p:blipFill>
        <p:spPr>
          <a:xfrm>
            <a:off x="609480" y="990720"/>
            <a:ext cx="815976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55"/>
              </a:rPr>
              <a:t>Typical NEON Site</a:t>
            </a:r>
            <a:endParaRPr b="1" lang="en-US" sz="24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20" name="Date Placeholder 2"/>
          <p:cNvSpPr/>
          <p:nvPr/>
        </p:nvSpPr>
        <p:spPr>
          <a:xfrm>
            <a:off x="1522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CF6B-406A-46B5-ADBA-A2EC28D3B74A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5" descr="fixed site still 4.tif"/>
          <p:cNvPicPr/>
          <p:nvPr/>
        </p:nvPicPr>
        <p:blipFill>
          <a:blip r:embed="rId1"/>
          <a:stretch/>
        </p:blipFill>
        <p:spPr>
          <a:xfrm>
            <a:off x="371520" y="1338120"/>
            <a:ext cx="8288280" cy="466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1522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1196-E5C4-4EF3-9CF9-84628332C8C6}" type="slidenum">
              <a:rPr b="0" lang="en-US" sz="800" spc="-1" strike="noStrike">
                <a:solidFill>
                  <a:srgbClr val="898989"/>
                </a:solidFill>
                <a:latin typeface="Univers 55"/>
                <a:ea typeface="Univers 55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 55"/>
              </a:rPr>
              <a:t>Site Schematic</a:t>
            </a:r>
            <a:endParaRPr b="1" lang="en-US" sz="3200" spc="-1" strike="noStrike">
              <a:solidFill>
                <a:srgbClr val="1b2c5f"/>
              </a:solidFill>
              <a:latin typeface="Univers 55"/>
            </a:endParaRPr>
          </a:p>
        </p:txBody>
      </p:sp>
      <p:pic>
        <p:nvPicPr>
          <p:cNvPr id="528" name="Picture 8" descr="NEON-Site-Graphic_rev.jpg"/>
          <p:cNvPicPr/>
          <p:nvPr/>
        </p:nvPicPr>
        <p:blipFill>
          <a:blip r:embed="rId1"/>
          <a:stretch/>
        </p:blipFill>
        <p:spPr>
          <a:xfrm>
            <a:off x="3583080" y="966960"/>
            <a:ext cx="5465520" cy="55036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9" descr="NEON-Site-Graphic_rev.jpg"/>
          <p:cNvPicPr/>
          <p:nvPr/>
        </p:nvPicPr>
        <p:blipFill>
          <a:blip r:embed="rId2"/>
          <a:stretch/>
        </p:blipFill>
        <p:spPr>
          <a:xfrm>
            <a:off x="201600" y="1244520"/>
            <a:ext cx="3119400" cy="231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0" name="Picture 7" descr="Tower Location Typical Drawing Short Tower New Soil Holes.bmp"/>
          <p:cNvPicPr/>
          <p:nvPr/>
        </p:nvPicPr>
        <p:blipFill>
          <a:blip r:embed="rId3"/>
          <a:stretch/>
        </p:blipFill>
        <p:spPr>
          <a:xfrm>
            <a:off x="201600" y="3710160"/>
            <a:ext cx="4514760" cy="275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1" name="Rectangle 8"/>
          <p:cNvSpPr/>
          <p:nvPr/>
        </p:nvSpPr>
        <p:spPr>
          <a:xfrm>
            <a:off x="507960" y="51148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il Arr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ep Out Bounda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1"/>
          <p:cNvSpPr/>
          <p:nvPr/>
        </p:nvSpPr>
        <p:spPr>
          <a:xfrm>
            <a:off x="2593800" y="4835520"/>
            <a:ext cx="9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mentation H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3"/>
          <p:cNvSpPr/>
          <p:nvPr/>
        </p:nvSpPr>
        <p:spPr>
          <a:xfrm>
            <a:off x="1711080" y="524016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w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C:\Documents and Settings\bwee\Desktop\New Folder\ddd\Fig.C.png"/>
          <p:cNvPicPr/>
          <p:nvPr/>
        </p:nvPicPr>
        <p:blipFill>
          <a:blip r:embed="rId1"/>
          <a:srcRect l="12841" t="31904" r="18259" b="26194"/>
          <a:stretch/>
        </p:blipFill>
        <p:spPr>
          <a:xfrm>
            <a:off x="1709640" y="3505320"/>
            <a:ext cx="6672240" cy="31575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55"/>
                <a:ea typeface="ＭＳ Ｐゴシック"/>
              </a:rPr>
              <a:t>NEON Data</a:t>
            </a:r>
            <a:endParaRPr b="1" lang="en-US" sz="2400" spc="-1" strike="noStrike">
              <a:solidFill>
                <a:srgbClr val="1b2c5f"/>
              </a:solidFill>
              <a:latin typeface="Univers 55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09120" y="1371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Univers 55"/>
                <a:ea typeface="ＭＳ Ｐゴシック"/>
              </a:rPr>
              <a:t>Biodiversity in terrestrial and aquatic taxa</a:t>
            </a:r>
            <a:endParaRPr b="0" lang="en-US" sz="18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Univers 55"/>
                <a:ea typeface="ＭＳ Ｐゴシック"/>
              </a:rPr>
              <a:t>Ecological genomics</a:t>
            </a:r>
            <a:endParaRPr b="0" lang="en-US" sz="18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Univers 55"/>
                <a:ea typeface="ＭＳ Ｐゴシック"/>
              </a:rPr>
              <a:t>Population dynamics and demography</a:t>
            </a:r>
            <a:endParaRPr b="0" lang="en-US" sz="18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Univers 55"/>
                <a:ea typeface="ＭＳ Ｐゴシック"/>
              </a:rPr>
              <a:t>Productivity and carbon fluxes</a:t>
            </a:r>
            <a:endParaRPr b="0" lang="en-US" sz="18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Univers 55"/>
                <a:ea typeface="ＭＳ Ｐゴシック"/>
              </a:rPr>
              <a:t>Phenology</a:t>
            </a:r>
            <a:endParaRPr b="0" lang="en-US" sz="18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Univers 55"/>
                <a:ea typeface="ＭＳ Ｐゴシック"/>
              </a:rPr>
              <a:t>Infectious disease</a:t>
            </a:r>
            <a:endParaRPr b="0" lang="en-US" sz="18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Univers 55"/>
                <a:ea typeface="ＭＳ Ｐゴシック"/>
              </a:rPr>
              <a:t>Systematics (Barcoding and BioArchive)</a:t>
            </a:r>
            <a:endParaRPr b="0" lang="en-US" sz="18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Univers 55"/>
                <a:ea typeface="ＭＳ Ｐゴシック"/>
              </a:rPr>
              <a:t>Stoichiometry and nutrient limitation</a:t>
            </a:r>
            <a:endParaRPr b="0" lang="en-US" sz="1800" spc="-1" strike="noStrike">
              <a:solidFill>
                <a:srgbClr val="1b2c5f"/>
              </a:solidFill>
              <a:latin typeface="Univers 55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Univers 55"/>
                <a:ea typeface="ＭＳ Ｐゴシック"/>
              </a:rPr>
              <a:t>Ecohydrology</a:t>
            </a:r>
            <a:endParaRPr b="0" lang="en-US" sz="1800" spc="-1" strike="noStrike">
              <a:solidFill>
                <a:srgbClr val="1b2c5f"/>
              </a:solidFill>
              <a:latin typeface="Univers 55"/>
            </a:endParaRPr>
          </a:p>
        </p:txBody>
      </p:sp>
      <p:grpSp>
        <p:nvGrpSpPr>
          <p:cNvPr id="537" name="Group 8"/>
          <p:cNvGrpSpPr/>
          <p:nvPr/>
        </p:nvGrpSpPr>
        <p:grpSpPr>
          <a:xfrm>
            <a:off x="4952880" y="4495680"/>
            <a:ext cx="1295640" cy="914400"/>
            <a:chOff x="4952880" y="4495680"/>
            <a:chExt cx="1295640" cy="914400"/>
          </a:xfrm>
        </p:grpSpPr>
        <p:sp>
          <p:nvSpPr>
            <p:cNvPr id="538" name="Right Arrow 12"/>
            <p:cNvSpPr/>
            <p:nvPr/>
          </p:nvSpPr>
          <p:spPr>
            <a:xfrm>
              <a:off x="4952880" y="4495680"/>
              <a:ext cx="1295640" cy="914400"/>
            </a:xfrm>
            <a:prstGeom prst="rightArrow">
              <a:avLst>
                <a:gd name="adj1" fmla="val 50000"/>
                <a:gd name="adj2" fmla="val 50012"/>
              </a:avLst>
            </a:prstGeom>
            <a:solidFill>
              <a:srgbClr val="c3d69b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6"/>
            <p:cNvSpPr/>
            <p:nvPr/>
          </p:nvSpPr>
          <p:spPr>
            <a:xfrm>
              <a:off x="4952880" y="4724280"/>
              <a:ext cx="1067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7f7f7f"/>
                  </a:solidFill>
                  <a:latin typeface="Arial"/>
                </a:rPr>
                <a:t>Lab Breakd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46784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Univers 55"/>
              </a:rPr>
              <a:t>Notional Flight Plan for Standard Observations of NEON Core and Relocatable Sites</a:t>
            </a:r>
            <a:endParaRPr b="1" lang="en-US" sz="2300" spc="-1" strike="noStrike">
              <a:solidFill>
                <a:srgbClr val="1b2c5f"/>
              </a:solidFill>
              <a:latin typeface="Univers 55"/>
            </a:endParaRPr>
          </a:p>
        </p:txBody>
      </p:sp>
      <p:pic>
        <p:nvPicPr>
          <p:cNvPr id="541" name="Picture 6" descr="Flightpath"/>
          <p:cNvPicPr/>
          <p:nvPr/>
        </p:nvPicPr>
        <p:blipFill>
          <a:blip r:embed="rId1"/>
          <a:stretch/>
        </p:blipFill>
        <p:spPr>
          <a:xfrm>
            <a:off x="914400" y="1066680"/>
            <a:ext cx="6324480" cy="42577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7"/>
          <p:cNvSpPr/>
          <p:nvPr/>
        </p:nvSpPr>
        <p:spPr>
          <a:xfrm>
            <a:off x="6858000" y="182880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s 2 payloads in operation from roughly April to S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8"/>
          <p:cNvSpPr/>
          <p:nvPr/>
        </p:nvSpPr>
        <p:spPr>
          <a:xfrm>
            <a:off x="990720" y="5440320"/>
            <a:ext cx="7619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tional flight plan for payload 1 (blue dots) and payload 2 (orange diamonds). The location of the vicarious ground site is indicated by the </a:t>
            </a:r>
            <a:r>
              <a:rPr b="0" i="1" lang="en-US" sz="1600" spc="-1" strike="noStrike">
                <a:solidFill>
                  <a:srgbClr val="660066"/>
                </a:solidFill>
                <a:latin typeface="Arial"/>
              </a:rPr>
              <a:t>*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 This flight plan has been optimized to survey each domain at its period of peak greenness and when cloud cover is expected to be mini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6:39:36Z</dcterms:created>
  <dc:creator>tbeasley</dc:creator>
  <dc:description/>
  <dc:language>en-US</dc:language>
  <cp:lastModifiedBy>Brian</cp:lastModifiedBy>
  <dcterms:modified xsi:type="dcterms:W3CDTF">2010-07-27T14:08:31Z</dcterms:modified>
  <cp:revision>403</cp:revision>
  <dc:subject/>
  <dc:title>Slide 1</dc:title>
</cp:coreProperties>
</file>